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6EE-DF09-4721-9A93-B05E889F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E54-3AE7-4457-B671-99E95B2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3FE84-93A3-406D-B78A-6E9692B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7B94-868A-4256-9F81-3E23A6A4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7062-5753-46A7-B424-3396D7AD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0F22-A445-4CD0-B9DA-366DC787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80A75-E842-41E4-87CD-46B3576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064E4-B6B5-4618-8558-448DDA9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619C4-2ACC-4773-ACC8-62723EE7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2F31D-95D0-45CD-AFF5-574A33C7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49265-E23C-4231-B7AE-CCC8B362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3C41B-1F56-41A2-A92F-3B2DFFE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CBD-3DF0-49A7-87EE-7C0439A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55634-0090-4BE1-A9B8-46B03C6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52E74-F617-45EB-B8B1-0B1B2BA2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DE4B0-5B0E-48E3-9F7B-0BD42B3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E0426-0219-477A-A383-1D27876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8C9CD-301D-4180-9EDF-AE08274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B54D-BCC1-41D4-ACCF-5F23110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6D5E6-6C83-487A-BEF1-ED0F22B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23B1A-DF37-44BB-B1CE-DBDA6E0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E4795-5F72-4CED-874D-A61CE37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A8900-9943-4667-90BC-CF0311DD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27E-277B-4928-B52F-03A1A0E7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C72E3-B6A6-46AA-A95E-D6010934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11D4-2E1A-48AD-8103-1CFDD5BE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8F49B-1882-41DB-8C56-8CE37F7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94D0-6707-4A91-A749-0E8B5D6F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B0500-DD5C-493D-8518-AE0F36B5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B9C8-7801-4B2A-92CC-09FD485B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5111-DA74-4052-86B4-F6AEFA8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76E1-BA75-4D3C-B640-BB987DA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2103D-0AF1-4AD6-A714-C6A816C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C58F-EC2A-4502-A296-3D8A5AA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FB74-3EA6-4A36-A2E2-B83A8A49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A880-503D-42E3-B482-9A7FA5F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C0E3-411B-48C5-B1AA-6C9FB777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01FC7-9BE7-40C3-9161-C188930C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916EF-5346-41E3-B5C6-4E111BA8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548A-0F34-45B5-828B-47B42C37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7601D-3796-4E20-9E85-F3F12EF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43833-EB6F-478E-886B-39D78FC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C32F6-199F-4120-A513-F049EB2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6B1B1-2622-46DC-A365-F0199E0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BC1BC-8C25-4EAB-8B24-3291B2AC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7A86-74B2-41CD-B87A-A1F6CE1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7891A-B948-4C14-9136-ACFDC0D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48197-D6B1-4F0C-B30D-C460121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F7C43-8D30-4427-95FF-53CE28A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32E0-F0CE-45B0-8440-940DACEA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B970F-9490-4FBC-BFC2-D5E6DD0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AB5D7-B3EC-45C3-8151-531E528C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D1ECE-7538-4721-AE08-E733BE9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015C7-4D7A-4D0D-8BBF-52CFE9C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AB745-A0B3-451A-86D2-D3117A5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7B384-6435-4E9B-B055-4F1289B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2018-83A0-4728-BB37-C064F0A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E11D1-3585-41F6-BD4A-40E7622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DA8BD-B6ED-4FD7-B34B-1EFB3D6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CBA3C-F582-4E81-9EC5-9C8CEB5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DD79D-4776-4903-A5DC-B15D4C0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2F051-8B2B-4683-9568-9741980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25FBD-568B-4402-8D67-FCCB2807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4C307-2452-4B9F-BD5A-78DDD97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E2BEB-EDD0-4636-B6E5-6D98D85D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41E1B-0EA3-4A75-8764-E59BD3A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A42FF-3D5F-407F-AC05-A94FF3DB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47E-C7CD-4268-B26A-5AE2AD09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87535-A502-4ACF-8DCB-5AF0A3A9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BCE4B-5D9C-4DBD-A393-5CFE2D9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B7E27-7189-42B5-92A0-AD8FA8E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7F230-CCB9-4F15-81A7-2A30FF4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DE85A-91E9-4096-A924-0CAA1C6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31142-FE3A-47B9-862E-5E25DBE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701CE-829B-4506-BEF2-596BB7AE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9DBD8-81BC-4B42-AA9C-931579E3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3922D-82F1-40FF-93E9-99662EAF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54412-86B0-4C21-A7CE-FC86DB36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FD2-7A60-40F0-9F9F-F3CC6CD6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57E4A-2EFF-40EB-B4BA-BFBAF908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DA0CC-BAC4-4CE5-B8B0-C14D5DE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90517-84E0-415E-B7F9-0E1D1F9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7D0FC-2827-47A2-A6BC-3167BBE1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50E4A-49B6-42C5-BFD4-FCC85B2B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51289-1B3C-4735-BB21-2C1BB23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690B7-1930-4358-BD56-94F94B9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1B6A0-9545-4F18-A515-21A5975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7046C-11A3-4A8F-BBD5-97BA1E72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A4F7C-F85F-480B-A952-EEB99F0E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7673-A05D-4052-B0B6-FFE5B7BD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87142-C45B-492D-BE32-F09A9036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E59A4-3891-4DEB-8600-67E09376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12479-876F-41DA-B984-809AF56C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01218-3E28-485C-AA8F-516C71FA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F8AE4-A73D-4A02-AD2F-3BAF475D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65E9E-75C1-4835-ACAD-CB5221C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0811D-4DB3-4415-985C-CDEAEDB4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E08AB-9D91-4085-849C-FEA33B6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01881-9FE6-45E2-B9AA-81F392B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29D73-8668-43C4-970D-ED0BFD4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96A3-7F17-49CD-BFF1-EA229F9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5D49B-E4F4-41E1-B62E-C5E304A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52625-1ED8-44B2-BDE9-4392A416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28095-A1BE-47F3-857A-E3E4E49C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E00A1-EC24-4962-BE87-6552D2A7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73CCE-1E18-41D7-A753-0448841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457A5-E777-4BDB-BE48-5DDA95C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D00F8-309F-4F6A-A92B-93346ADC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C7DE0-72C3-4EAC-9B69-D33F347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25F28-9244-4B9A-91EB-B6F6CFC4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396E3-3BF0-425D-B863-AAA0009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5CD-4C00-4EB1-BAA9-A021A2D9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4EED-537F-437A-9A9C-72C9EFB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D2900-9BB9-4B68-A31E-3F79556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F630E-3A84-4259-8514-FBB07F8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A47AC-3337-457C-94FF-B82B30D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79C63-19AC-4BD5-9DE6-0A736BD3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6AF31-9167-42DC-AE52-8360A44B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5CDD5-2CAC-4D3C-9622-4F3B277B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43801-5843-441F-8746-4454ED8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91FF9-5EF8-43BE-AFD5-A53C570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805DC-D9C3-40AE-96AF-516DF3E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B776B-D806-4079-A4D5-29B30AB2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A25-83FC-4FBF-9916-FA16D6D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77AB1-77EC-46C2-BAA1-B7A17B8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60E3B-80FB-43E7-BC45-1766C36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4370A-5E26-4687-8417-B689C34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BF7A8-A4EE-4927-AC6E-276CE800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C7561-F6BB-496F-BEA4-F02B5E3C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9FA24A-11FB-4CDA-AC04-CC7B17A6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11C22-31E4-4F1F-BA65-3422C83A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6AEFD-B9BB-4B7D-A7E9-87AE933C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00F2E-9B77-48C6-8F31-0617E281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5E9E1-E17F-48E4-9B4D-E7D04B2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CB93-CC39-4033-A6B7-D1BF8A5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B1AAA-8C01-48D9-9CA6-AD35403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02D2A-70FE-4BAF-A408-6265D63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0C287-7318-4CE0-AC16-0321A29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DB702-6ED1-4650-A6B7-05CB543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C71BB-278F-4C2E-95F5-F3E95FC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E161C-FFED-468A-869C-034D561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F4C17-8663-48DD-9F78-3DDC6898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9BAC92-9BDD-42ED-9A44-B61B997A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8BFBD-AFCD-43DE-A556-287BDD2C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90A87-AADB-49C7-826E-86037BAB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1CBB-E76B-4664-834D-D9B17EF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2A739-0CA3-4741-AB97-602670D2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1CBCB-784D-42A7-99CC-3209A84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4D616-8B32-4FF4-B640-B8F1574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95CE2-521A-4A77-A3B0-C368DEDC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43491-188E-407E-BCBA-08112F9D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FB3A3-A73B-4368-8067-C9DF190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B9A66-FF38-4F0B-AF5D-73FDF3C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E5F09-F64C-4B1B-B110-18026F0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23B24-9171-4439-B12F-7E1A2FB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326F8-267A-4E38-A2FD-0BFD949E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9F58-FD30-4644-8804-3FD4F486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37AC3-88CE-42B9-873F-7394E72E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A021-07FB-420B-95E4-ED524042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484C-521B-46A0-8539-46DE0DB9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675C-06AC-4094-ABA7-725FDA57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75F7-ADC8-4B7A-A7B2-EC5DCF0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34C6-3426-4BE6-AC6D-DAC26E9C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71C-9BA3-4E02-8373-6EF3184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96E1-6EAD-4D09-8C04-2FDD9CE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56CB-0D74-43FB-AE8D-11AF36F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99FA-AC8F-40D5-B423-10DB65A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FBF4-D403-4858-A3F5-C033359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A9E2-6133-471B-A760-37A46A66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C36E-9238-4C34-BD6F-9BF9078F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477A-6D63-407A-A8A8-23D59469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27D2D-5E61-4F54-95B3-764D92BF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7D284-612F-4121-A4AC-0CADD5BD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5CA66-1E26-4621-A738-50ED222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75D-8360-4CFC-8076-66E95F94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085F5-5CC8-4A08-83EB-562DF89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C960E-8477-4CD8-A552-BCEEC32F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7DC21-64A6-43F4-822C-454788E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1E2C5-A3BB-4868-990F-2857271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42A1B-5BC6-4098-962B-0BB7E22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AB930-2BA3-4EB6-9658-BF510D1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CD4D5-D582-4372-96CE-BD68F96B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BD28A-0BFB-44DA-A8AB-813C2D9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79BAE-0DF3-4115-A7BD-1B861E2B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9F19-2FE2-435F-83FB-D4EFCE39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31-72CF-4C6D-B268-273B46E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04E5-476A-40E8-8D7D-AC5A9CA8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D742-4556-4986-A1A8-E416BF2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29D65-D185-4DBB-9E65-41A76BE5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82AB-4FDB-43D3-A847-09E1A7E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30F6-D691-442B-B318-BAA9C094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A6DF-6602-415A-807B-ADB2D1B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55C3-45C8-4D4F-A7BF-FBD8E67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DA39-5458-41B3-A3CB-A0BE32E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F058-605C-4C18-96D9-C333919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DDEB-F7F8-4AA5-A684-E255CE50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719-A607-4655-87A6-4E23716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2D7F-17EE-4C5E-865B-93516276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1E68-0F7B-4F28-A98E-871176F1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53C5-97DE-44AE-9B9A-60C6A82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2213-BAD0-41C6-8E7E-316171A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3EFE-A81D-4C9C-B4B8-CAE60DE8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04DC-4D0A-4AFF-98AF-25C740E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8EEE-41D5-4DF6-A82D-F050B84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9996-788F-4A91-9B0A-6337FD19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6C55B-9792-4646-BB45-3695FEF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A610-08CD-4970-95AF-620797C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C5D-AC86-44FC-8369-2D25CAE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B76F-0E45-4DB6-821B-CCBA10F0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CBBB-5BBD-48C4-9C85-2D8E1AA3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1453-5112-413D-B2CC-58FDF13A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C1A8-5FA0-4417-89EB-9DDE9943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5596-B5EA-4DF9-845C-3BFD0C8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A3A33-2362-4721-8137-E24AA2D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DE62-1BA8-48EF-BFC6-EE7130F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1B86-ED7B-480D-8600-BB95001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A8B2-C400-4591-A34F-4D7F142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3115-3F02-47F0-942E-CAD290F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D26-E8B1-4C43-8D83-A5EB52D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C012-D5CE-47DE-9F12-D34D046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C992-EE1F-4B3C-93D5-062C3A9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3CF6-50A9-4E3B-8B7F-1719C16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3ADF-E063-4E63-9ACA-6AABF758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1603-63E8-4D97-B890-EFB29E49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91CE2-2424-4CDC-B362-5E9B8ED9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050F-6643-4965-AF80-C7A57D3F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5A90-3B51-4AAF-B9B4-01E1915A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A813E-482A-44D5-B08A-416A247B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E4AE3-696A-409E-A8AE-A989E093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198-0A25-4AB2-82DD-50A7584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20CF-A7B8-42ED-AB77-5FE75A3E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A483-5085-4357-A5C5-F233D49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06E36-550C-4BD0-8120-BCA32BA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FEEB7-0559-4BB9-B134-5730BF2A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2D84-C1C7-45DE-A4E3-48E5334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09D6-4012-4525-8680-17826745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9760-B24C-498B-83E5-B1EE1F60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2660-2766-4729-853A-F0CA943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8514-AE33-44FE-9FBA-62A02951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9CBAC-1CDB-406C-A76B-A68D62C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AE94-A8BD-4D87-B391-DBBEC7C9B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2B79-1213-49CF-9D4A-CF778D72F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8CE8-271F-452B-85A8-5147394CA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0C4-30D7-436A-9A6D-CC3B44328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26B-BD7D-4B49-92DD-96E3B13C3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B4F2-9A70-401E-913A-C62741EAA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FFCC-409F-482D-9370-9431C87C6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0F8-DE13-4ED4-A867-A5B031FB5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CD2-325A-4CEA-81FD-9A32096AC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13F-7B69-47CA-A084-48094833F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848-1909-4AC5-B1A7-2E198A969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84B-A65B-4FA2-AA9E-CA0B098EA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78E-4451-4A5D-A8F0-98C24B8AB9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B93-C168-4E9E-ADEE-80290BD74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A43-2190-4689-A87B-E17179FA17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8CD4-5A4A-4987-84A7-7706E609C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6010-894A-49D8-AE8A-88B459152C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50FC-F5B6-4E34-A233-02BC671FC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D73-4876-4819-B80D-09F886C2F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F000-551C-428C-86CF-6AF77E2EE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392-C4BA-4BBE-A007-292F44054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A13-FA86-4A6F-926B-C407152A40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07F-1E70-411E-A04D-C12A9B561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CC37-2F63-465D-9E82-333002CB0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3074-E665-450F-B5C5-7DF7985BF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19C-3D35-4AB2-8041-27D2E695B3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509-BCD5-4BCA-A636-522A38532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D0E3-1155-4FE9-82CC-B038FFDB5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BFA-3ECB-4A86-83B9-732E16D62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DC8A-7628-4830-9A9C-78460A73E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C83-50E4-4AF9-B07F-A5B46DA93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94C-8E2A-4296-91A1-E7A0210F3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D56-812C-4E48-960F-3242432D7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8AD-8800-401B-A14B-0953ECE01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52A1-AA65-4C9A-AC37-51E6CB355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CB5-3EAC-4909-909C-C5F7F88AA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DE3-43E1-4E62-941E-5711EDF7B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157-BB57-4D2B-A96D-F16D5D2A2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3947"/>
          <p:cNvPicPr/>
          <p:nvPr/>
        </p:nvPicPr>
        <p:blipFill>
          <a:blip r:embed="rId1"/>
          <a:stretch/>
        </p:blipFill>
        <p:spPr>
          <a:xfrm>
            <a:off x="82440" y="1387440"/>
            <a:ext cx="8480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69633" descr=""/>
          <p:cNvPicPr/>
          <p:nvPr/>
        </p:nvPicPr>
        <p:blipFill>
          <a:blip r:embed="rId1"/>
          <a:stretch/>
        </p:blipFill>
        <p:spPr>
          <a:xfrm>
            <a:off x="361800" y="1685880"/>
            <a:ext cx="8420400" cy="34862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7416720" cy="319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5219640" y="3110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6300720" y="31129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971640" y="4375080"/>
            <a:ext cx="741672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971640" y="4797360"/>
            <a:ext cx="7416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8609" descr=""/>
          <p:cNvPicPr/>
          <p:nvPr/>
        </p:nvPicPr>
        <p:blipFill>
          <a:blip r:embed="rId1"/>
          <a:stretch/>
        </p:blipFill>
        <p:spPr>
          <a:xfrm>
            <a:off x="652320" y="1204920"/>
            <a:ext cx="7839360" cy="44481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609560" y="2708280"/>
            <a:ext cx="58608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258920" y="3529080"/>
            <a:ext cx="216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187280" y="3943440"/>
            <a:ext cx="288000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1258920" y="5262480"/>
            <a:ext cx="4537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67585" descr=""/>
          <p:cNvPicPr/>
          <p:nvPr/>
        </p:nvPicPr>
        <p:blipFill>
          <a:blip r:embed="rId1"/>
          <a:stretch/>
        </p:blipFill>
        <p:spPr>
          <a:xfrm>
            <a:off x="357120" y="1219320"/>
            <a:ext cx="8429760" cy="4419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71640" y="3510000"/>
            <a:ext cx="27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26920" y="5210280"/>
            <a:ext cx="60501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04840" y="938160"/>
            <a:ext cx="8734320" cy="4981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2166840" y="1566720"/>
            <a:ext cx="103680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720720" cy="50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848200" y="2205000"/>
            <a:ext cx="52416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2268360" y="2708280"/>
            <a:ext cx="52416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877080" y="2665440"/>
            <a:ext cx="52380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3419640" y="3151080"/>
            <a:ext cx="52380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7164360" y="3645000"/>
            <a:ext cx="52380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6227640" y="414972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7155000" y="4610160"/>
            <a:ext cx="80172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514760" y="5113440"/>
            <a:ext cx="8017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971640" y="5599080"/>
            <a:ext cx="801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9410" descr=""/>
          <p:cNvPicPr/>
          <p:nvPr/>
        </p:nvPicPr>
        <p:blipFill>
          <a:blip r:embed="rId1"/>
          <a:stretch/>
        </p:blipFill>
        <p:spPr>
          <a:xfrm>
            <a:off x="195120" y="814320"/>
            <a:ext cx="8753760" cy="522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1908000" y="1844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8172360" y="3789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8172360" y="427824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8172360" y="474336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8"/>
          <a:stretch/>
        </p:blipFill>
        <p:spPr>
          <a:xfrm>
            <a:off x="8172360" y="523872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9"/>
          <a:stretch/>
        </p:blipFill>
        <p:spPr>
          <a:xfrm>
            <a:off x="8172360" y="573408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58373" descr=""/>
          <p:cNvPicPr/>
          <p:nvPr/>
        </p:nvPicPr>
        <p:blipFill>
          <a:blip r:embed="rId1"/>
          <a:stretch/>
        </p:blipFill>
        <p:spPr>
          <a:xfrm>
            <a:off x="190440" y="876240"/>
            <a:ext cx="8763120" cy="5105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3564000" y="378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2195640" y="518652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7352" descr=""/>
          <p:cNvPicPr/>
          <p:nvPr/>
        </p:nvPicPr>
        <p:blipFill>
          <a:blip r:embed="rId1"/>
          <a:stretch/>
        </p:blipFill>
        <p:spPr>
          <a:xfrm>
            <a:off x="228600" y="1771560"/>
            <a:ext cx="8686800" cy="33148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2556000" y="42022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56324" descr=""/>
          <p:cNvPicPr/>
          <p:nvPr/>
        </p:nvPicPr>
        <p:blipFill>
          <a:blip r:embed="rId1"/>
          <a:stretch/>
        </p:blipFill>
        <p:spPr>
          <a:xfrm>
            <a:off x="690480" y="1247760"/>
            <a:ext cx="7763040" cy="4362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1584360" cy="5032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3"/>
          <a:stretch/>
        </p:blipFill>
        <p:spPr>
          <a:xfrm>
            <a:off x="2843280" y="3716280"/>
            <a:ext cx="1584360" cy="5032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4"/>
          <a:stretch/>
        </p:blipFill>
        <p:spPr>
          <a:xfrm>
            <a:off x="6084720" y="3132000"/>
            <a:ext cx="1584360" cy="5032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5"/>
          <a:stretch/>
        </p:blipFill>
        <p:spPr>
          <a:xfrm>
            <a:off x="6084720" y="3716280"/>
            <a:ext cx="1584360" cy="5032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6"/>
          <a:stretch/>
        </p:blipFill>
        <p:spPr>
          <a:xfrm>
            <a:off x="2527200" y="5300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7"/>
          <a:stretch/>
        </p:blipFill>
        <p:spPr>
          <a:xfrm>
            <a:off x="3276720" y="5310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8"/>
          <a:stretch/>
        </p:blipFill>
        <p:spPr>
          <a:xfrm>
            <a:off x="4408560" y="5319720"/>
            <a:ext cx="272880" cy="3189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9"/>
          <a:stretch/>
        </p:blipFill>
        <p:spPr>
          <a:xfrm>
            <a:off x="5580000" y="5310360"/>
            <a:ext cx="225360" cy="318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10"/>
          <a:stretch/>
        </p:blipFill>
        <p:spPr>
          <a:xfrm>
            <a:off x="7054920" y="5335560"/>
            <a:ext cx="225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55300" descr=""/>
          <p:cNvPicPr/>
          <p:nvPr/>
        </p:nvPicPr>
        <p:blipFill>
          <a:blip r:embed="rId1"/>
          <a:stretch/>
        </p:blipFill>
        <p:spPr>
          <a:xfrm>
            <a:off x="195120" y="690480"/>
            <a:ext cx="8753760" cy="54770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图片 55302" descr=""/>
          <p:cNvPicPr/>
          <p:nvPr/>
        </p:nvPicPr>
        <p:blipFill>
          <a:blip r:embed="rId3"/>
          <a:stretch/>
        </p:blipFill>
        <p:spPr>
          <a:xfrm>
            <a:off x="1866960" y="1633680"/>
            <a:ext cx="5343480" cy="8096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4"/>
          <a:stretch/>
        </p:blipFill>
        <p:spPr>
          <a:xfrm>
            <a:off x="6012000" y="3635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5"/>
          <a:stretch/>
        </p:blipFill>
        <p:spPr>
          <a:xfrm>
            <a:off x="774072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6"/>
          <a:stretch/>
        </p:blipFill>
        <p:spPr>
          <a:xfrm>
            <a:off x="1403280" y="458136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54277" descr=""/>
          <p:cNvPicPr/>
          <p:nvPr/>
        </p:nvPicPr>
        <p:blipFill>
          <a:blip r:embed="rId1"/>
          <a:stretch/>
        </p:blipFill>
        <p:spPr>
          <a:xfrm>
            <a:off x="385920" y="2286000"/>
            <a:ext cx="837216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2"/>
          <a:stretch/>
        </p:blipFill>
        <p:spPr>
          <a:xfrm>
            <a:off x="2771640" y="41054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3"/>
          <a:stretch/>
        </p:blipFill>
        <p:spPr>
          <a:xfrm>
            <a:off x="3564000" y="409572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4"/>
          <a:stretch/>
        </p:blipFill>
        <p:spPr>
          <a:xfrm>
            <a:off x="4356000" y="409572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5"/>
          <a:stretch/>
        </p:blipFill>
        <p:spPr>
          <a:xfrm>
            <a:off x="5148360" y="414972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6"/>
          <a:stretch/>
        </p:blipFill>
        <p:spPr>
          <a:xfrm>
            <a:off x="5940360" y="414972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7"/>
          <a:stretch/>
        </p:blipFill>
        <p:spPr>
          <a:xfrm>
            <a:off x="6678720" y="414972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8"/>
          <a:stretch/>
        </p:blipFill>
        <p:spPr>
          <a:xfrm>
            <a:off x="7740720" y="365436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9"/>
          <a:stretch/>
        </p:blipFill>
        <p:spPr>
          <a:xfrm>
            <a:off x="7667640" y="409572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52231" descr=""/>
          <p:cNvPicPr/>
          <p:nvPr/>
        </p:nvPicPr>
        <p:blipFill>
          <a:blip r:embed="rId1"/>
          <a:stretch/>
        </p:blipFill>
        <p:spPr>
          <a:xfrm>
            <a:off x="352440" y="1157400"/>
            <a:ext cx="8439120" cy="45432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129708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129708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755640" y="5392800"/>
            <a:ext cx="129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45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